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3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7F66-A25C-4590-9F43-88835A82A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AD2E-9861-4247-AB65-7011E9C28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BB5A-B63A-435B-A846-FB9F3E10D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“ase” mean? How can the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C66-2B43-4ADF-9140-2684F60A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CD1-2BAA-451E-9ED0-6FF764AD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51B-379F-447E-B34A-77321DC5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1BC-ADAF-477F-AA1E-8419CE6F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817-2C4A-49EB-A435-B744DF83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DB1-4222-4D85-AD4C-388FE741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722-BE67-412A-A42E-5952504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814-6121-4FD0-A9EB-72480771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7CE-85B5-431F-9689-139699B3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91D-212D-4CB0-BF7D-424E267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EFB-A7EA-464D-926E-67A3141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AB1-2829-44C2-A0B1-AAA4AB61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736-72F1-4EBB-BC4F-043E59727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rememb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DNA stand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DNA found in the ce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monomers of nucleic acids ca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do you know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t least 5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6095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ied:  DNA of numerous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d:  # of Adenine was always similar to the number of Thymin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# of Cytosine was always similar to the number of Guanine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Erwin Chargaff (1905-"/>
          <p:cNvPicPr/>
          <p:nvPr/>
        </p:nvPicPr>
        <p:blipFill>
          <a:blip r:embed="rId1"/>
          <a:stretch/>
        </p:blipFill>
        <p:spPr>
          <a:xfrm>
            <a:off x="6400800" y="1447920"/>
            <a:ext cx="2070000" cy="2894040"/>
          </a:xfrm>
          <a:prstGeom prst="rect">
            <a:avLst/>
          </a:prstGeom>
          <a:ln w="0">
            <a:noFill/>
          </a:ln>
        </p:spPr>
      </p:pic>
      <p:sp>
        <p:nvSpPr>
          <p:cNvPr id="170" name="WordArt 6"/>
          <p:cNvSpPr txBox="1"/>
          <p:nvPr/>
        </p:nvSpPr>
        <p:spPr>
          <a:xfrm rot="20026200">
            <a:off x="5967360" y="5151240"/>
            <a:ext cx="280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4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rwin Charga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rgaff’s R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A always bonds to 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C always bonds to 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Content Placeholder 6" descr="BasePairing.gif"/>
          <p:cNvPicPr/>
          <p:nvPr/>
        </p:nvPicPr>
        <p:blipFill>
          <a:blip r:embed="rId1"/>
          <a:stretch/>
        </p:blipFill>
        <p:spPr>
          <a:xfrm>
            <a:off x="2590920" y="2819520"/>
            <a:ext cx="43434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nds between bases (A &amp; T, G &amp; C) are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airly wea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and T are wea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2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and C are stro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three main components of the DNA struc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difference between the DNA and RNA backb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names of the 4 b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 pyrimidi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 puri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Chargaff’s rule say about pair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and Maurice Wilkins at King's College, (London, England) performed X-ray diffraction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noticed a diffraction pattern in DNA that showed that DNA was 2-stranded and a helix-sha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Rosalind Elsie Franklin"/>
          <p:cNvPicPr/>
          <p:nvPr/>
        </p:nvPicPr>
        <p:blipFill>
          <a:blip r:embed="rId1"/>
          <a:stretch/>
        </p:blipFill>
        <p:spPr>
          <a:xfrm>
            <a:off x="6864480" y="914400"/>
            <a:ext cx="2279520" cy="313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xbdna_br"/>
          <p:cNvPicPr/>
          <p:nvPr/>
        </p:nvPicPr>
        <p:blipFill>
          <a:blip r:embed="rId2"/>
          <a:stretch/>
        </p:blipFill>
        <p:spPr>
          <a:xfrm>
            <a:off x="6616800" y="3886200"/>
            <a:ext cx="2527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tson and Cri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7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Franklin’s X-ray image to build a model of the DNA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ar-Phosphate backbone on the 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 on the in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T have 2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have 3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watson-crick-dna"/>
          <p:cNvPicPr/>
          <p:nvPr/>
        </p:nvPicPr>
        <p:blipFill>
          <a:blip r:embed="rId1"/>
          <a:stretch/>
        </p:blipFill>
        <p:spPr>
          <a:xfrm>
            <a:off x="4648320" y="1625760"/>
            <a:ext cx="40384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the ladder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5’ to 3’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www.rpi.edu/dept/bcbp/molbiochem/MBWeb/mb2/part1/images/nucleic.gif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81600" y="55227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5520" y="274320"/>
            <a:ext cx="25909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4400" spc="-1" strike="noStrike">
                <a:solidFill>
                  <a:srgbClr val="376092"/>
                </a:solidFill>
                <a:latin typeface="Calibri"/>
              </a:rPr>
              <a:t>Show Mo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DNA-colored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DNA"/>
          <p:cNvPicPr/>
          <p:nvPr/>
        </p:nvPicPr>
        <p:blipFill>
          <a:blip r:embed="rId2"/>
          <a:stretch/>
        </p:blipFill>
        <p:spPr>
          <a:xfrm>
            <a:off x="3886200" y="3124080"/>
            <a:ext cx="485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hromosome is made of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c03_19"/>
          <p:cNvPicPr/>
          <p:nvPr/>
        </p:nvPicPr>
        <p:blipFill>
          <a:blip r:embed="rId1"/>
          <a:stretch/>
        </p:blipFill>
        <p:spPr>
          <a:xfrm>
            <a:off x="152280" y="1600200"/>
            <a:ext cx="5765760" cy="4324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03_21"/>
          <p:cNvPicPr/>
          <p:nvPr/>
        </p:nvPicPr>
        <p:blipFill>
          <a:blip r:embed="rId2"/>
          <a:stretch/>
        </p:blipFill>
        <p:spPr>
          <a:xfrm>
            <a:off x="3124080" y="16002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524160" y="1600200"/>
            <a:ext cx="26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otides are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ilding blocks of D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029200" y="281952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sph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7"/>
          <p:cNvSpPr/>
          <p:nvPr/>
        </p:nvSpPr>
        <p:spPr>
          <a:xfrm flipH="1">
            <a:off x="4495320" y="3048120"/>
            <a:ext cx="685800" cy="15228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8"/>
          <p:cNvSpPr/>
          <p:nvPr/>
        </p:nvSpPr>
        <p:spPr>
          <a:xfrm flipH="1" flipV="1">
            <a:off x="1523880" y="2742840"/>
            <a:ext cx="3657600" cy="30492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5105520" y="350532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10"/>
          <p:cNvSpPr/>
          <p:nvPr/>
        </p:nvSpPr>
        <p:spPr>
          <a:xfrm flipH="1" flipV="1">
            <a:off x="2437920" y="3123720"/>
            <a:ext cx="3048120" cy="30492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11"/>
          <p:cNvSpPr/>
          <p:nvPr/>
        </p:nvSpPr>
        <p:spPr>
          <a:xfrm flipH="1" flipV="1">
            <a:off x="2590560" y="2514600"/>
            <a:ext cx="2895480" cy="129528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5029200" y="3809880"/>
            <a:ext cx="380880" cy="7632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13"/>
          <p:cNvSpPr/>
          <p:nvPr/>
        </p:nvSpPr>
        <p:spPr>
          <a:xfrm flipH="1">
            <a:off x="5333760" y="3809880"/>
            <a:ext cx="75960" cy="38124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Packa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09_a"/>
          <p:cNvPicPr/>
          <p:nvPr/>
        </p:nvPicPr>
        <p:blipFill>
          <a:blip r:embed="rId1"/>
          <a:stretch/>
        </p:blipFill>
        <p:spPr>
          <a:xfrm>
            <a:off x="685800" y="11620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How do we go from Genotype to Phenotyp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0" y="274284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6" descr="alleles.gif"/>
          <p:cNvPicPr/>
          <p:nvPr/>
        </p:nvPicPr>
        <p:blipFill>
          <a:blip r:embed="rId1"/>
          <a:stretch/>
        </p:blipFill>
        <p:spPr>
          <a:xfrm>
            <a:off x="380880" y="2819520"/>
            <a:ext cx="44769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2603520" y="228600"/>
            <a:ext cx="644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12-10 Chromosome Structur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f Eukary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bio_ch12_6220"/>
          <p:cNvPicPr/>
          <p:nvPr/>
        </p:nvPicPr>
        <p:blipFill>
          <a:blip r:embed="rId1"/>
          <a:stretch/>
        </p:blipFill>
        <p:spPr>
          <a:xfrm>
            <a:off x="1066680" y="2009880"/>
            <a:ext cx="6343920" cy="3132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1143000" y="18651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romos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09680" y="3541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erco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229280" y="3098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352680" y="1789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cleos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572000" y="4989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st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7467480" y="224640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2-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098520" y="1982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223" name="Chapter 12B.mpg" descr=""/>
          <p:cNvPicPr/>
          <p:nvPr/>
        </p:nvPicPr>
        <p:blipFill>
          <a:blip r:embed="rId4"/>
          <a:stretch/>
        </p:blipFill>
        <p:spPr>
          <a:xfrm>
            <a:off x="838080" y="647640"/>
            <a:ext cx="7581960" cy="568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3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name of the technique Rosalind Franklin used to analyze DNA’s shap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yp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bonds are formed between b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bonds form between A and 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name of the protein that DNA intertwines wi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it’s your tu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dna2"/>
          <p:cNvPicPr/>
          <p:nvPr/>
        </p:nvPicPr>
        <p:blipFill>
          <a:blip r:embed="rId1"/>
          <a:stretch/>
        </p:blipFill>
        <p:spPr>
          <a:xfrm>
            <a:off x="228600" y="1219320"/>
            <a:ext cx="84582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model ki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 stretch of DNA 9 base pairs 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choose the unique order of nucleotides, however make sure that you use at least one A,T,C, and G on each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ere to the color directions gi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ing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base pair bond will be the easiest to brea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H+ bonds, instead of 3 like C-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with lots A-T pairs are called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on Ori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rich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ic DNA only has 1 replication orig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DNA is too big to reproduce in a reasonable amount of time with 1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DNA uses multiple (hundreds) of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opens replication origi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opened by initiato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unzipped by HELICAS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 unzips DNA at the speed of a jet p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2 replication forks moving in opposite dir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DNA Replicate Accuratel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rand of the newly opened double stranded DNA acts as a template for making a new double strand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alf (strand) of the original DNA is known as a parent str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w, complementary strand of DNA that matches is called the daughter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x_chromos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½ old DNA coding for ½ new DNA is known as SEMI-CONSERVATIVE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replication: each old  double strand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Unzip into 2 single strands, which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de for a complementary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hich will attach with H+ bonds to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2 new double strand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1 new single strand and 1 old single strand 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0" descr="bio_ch12_6032"/>
          <p:cNvPicPr/>
          <p:nvPr/>
        </p:nvPicPr>
        <p:blipFill>
          <a:blip r:embed="rId1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mplementary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enzyme =DNA Poly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ases onto 3’ e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job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ases complementary to templa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ofread” and correct new Double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nded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 DNA polymerase adds 1000 nucleotides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 DNA polymerase adds 100 nucleotides/s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ww.johnkyrk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3" descr="bio_ch12_6032"/>
          <p:cNvPicPr/>
          <p:nvPr/>
        </p:nvPicPr>
        <p:blipFill>
          <a:blip r:embed="rId1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E &amp; CONTR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dna"/>
          <p:cNvPicPr/>
          <p:nvPr/>
        </p:nvPicPr>
        <p:blipFill>
          <a:blip r:embed="rId1"/>
          <a:stretch/>
        </p:blipFill>
        <p:spPr>
          <a:xfrm>
            <a:off x="990720" y="2590920"/>
            <a:ext cx="2666880" cy="3448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3_36"/>
          <p:cNvPicPr/>
          <p:nvPr/>
        </p:nvPicPr>
        <p:blipFill>
          <a:blip r:embed="rId2"/>
          <a:stretch/>
        </p:blipFill>
        <p:spPr>
          <a:xfrm>
            <a:off x="4876920" y="22096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37600" y="809640"/>
            <a:ext cx="8906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NA is composed of four types of nucleotid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NA is made up of a long chain of nucleot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nucleotide has three par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hosphate grou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eoxyribose su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nitrogen-containing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15"/>
          <p:cNvGrpSpPr/>
          <p:nvPr/>
        </p:nvGrpSpPr>
        <p:grpSpPr>
          <a:xfrm>
            <a:off x="3664800" y="3733920"/>
            <a:ext cx="4255560" cy="2506320"/>
            <a:chOff x="3664800" y="3733920"/>
            <a:chExt cx="4255560" cy="2506320"/>
          </a:xfrm>
        </p:grpSpPr>
        <p:pic>
          <p:nvPicPr>
            <p:cNvPr id="256" name="Picture 5" descr="bhspe-030802-002"/>
            <p:cNvPicPr/>
            <p:nvPr/>
          </p:nvPicPr>
          <p:blipFill>
            <a:blip r:embed="rId1"/>
            <a:stretch/>
          </p:blipFill>
          <p:spPr>
            <a:xfrm>
              <a:off x="3925800" y="4261680"/>
              <a:ext cx="3975840" cy="134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Group 13"/>
            <p:cNvGrpSpPr/>
            <p:nvPr/>
          </p:nvGrpSpPr>
          <p:grpSpPr>
            <a:xfrm>
              <a:off x="3664800" y="3733920"/>
              <a:ext cx="4255560" cy="2506320"/>
              <a:chOff x="3664800" y="3733920"/>
              <a:chExt cx="4255560" cy="2506320"/>
            </a:xfrm>
          </p:grpSpPr>
          <p:sp>
            <p:nvSpPr>
              <p:cNvPr id="258" name="Text Box 10"/>
              <p:cNvSpPr/>
              <p:nvPr/>
            </p:nvSpPr>
            <p:spPr>
              <a:xfrm>
                <a:off x="3664800" y="3733920"/>
                <a:ext cx="1524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hosphate group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 Box 11"/>
              <p:cNvSpPr/>
              <p:nvPr/>
            </p:nvSpPr>
            <p:spPr>
              <a:xfrm>
                <a:off x="3831840" y="5948280"/>
                <a:ext cx="17535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oxyribose (sugar)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 Box 12"/>
              <p:cNvSpPr/>
              <p:nvPr/>
            </p:nvSpPr>
            <p:spPr>
              <a:xfrm>
                <a:off x="6194160" y="3780000"/>
                <a:ext cx="1726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itrogen-containing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33520" y="9302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itrogen containing bases are the only difference in the four nucleotid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5" descr="_x0007_231.gif 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28600" y="1974960"/>
            <a:ext cx="867420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2640" y="824040"/>
            <a:ext cx="8915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tson and Crick determined the three-dimensional structure of DNA by building model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40384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y realized that DNA is a double helix that is made up of a sugar-phosphate backbone on the outside with bases on the ins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bhspe-030802-005"/>
          <p:cNvPicPr/>
          <p:nvPr/>
        </p:nvPicPr>
        <p:blipFill>
          <a:blip r:embed="rId1"/>
          <a:stretch/>
        </p:blipFill>
        <p:spPr>
          <a:xfrm rot="186600">
            <a:off x="4571640" y="2437920"/>
            <a:ext cx="40784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533520" y="9223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son and Crick’s discovery built on the work of Rosalind Franklin and Erwin Chargaf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8"/>
          <p:cNvGrpSpPr/>
          <p:nvPr/>
        </p:nvGrpSpPr>
        <p:grpSpPr>
          <a:xfrm>
            <a:off x="1402920" y="3331440"/>
            <a:ext cx="6048000" cy="3395160"/>
            <a:chOff x="1402920" y="3331440"/>
            <a:chExt cx="6048000" cy="3395160"/>
          </a:xfrm>
        </p:grpSpPr>
        <p:pic>
          <p:nvPicPr>
            <p:cNvPr id="268" name="Picture 3" descr="bhspe-030802-006"/>
            <p:cNvPicPr/>
            <p:nvPr/>
          </p:nvPicPr>
          <p:blipFill>
            <a:blip r:embed="rId1"/>
            <a:stretch/>
          </p:blipFill>
          <p:spPr>
            <a:xfrm rot="21309000">
              <a:off x="4952880" y="3657600"/>
              <a:ext cx="23860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bhspe-030802-004"/>
            <p:cNvPicPr/>
            <p:nvPr/>
          </p:nvPicPr>
          <p:blipFill>
            <a:blip r:embed="rId2"/>
            <a:stretch/>
          </p:blipFill>
          <p:spPr>
            <a:xfrm rot="21295800">
              <a:off x="1539720" y="3428640"/>
              <a:ext cx="234648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Rectangle 7"/>
          <p:cNvSpPr/>
          <p:nvPr/>
        </p:nvSpPr>
        <p:spPr>
          <a:xfrm>
            <a:off x="533520" y="1863720"/>
            <a:ext cx="86104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klin’s x-ray images suggested that DNA was a double helix of even wid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aff’s rules stated that A=T and C=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NA Bank and Alzheimer's Research. Illustration of DNA by L. Kubiak, NIH."/>
          <p:cNvPicPr/>
          <p:nvPr/>
        </p:nvPicPr>
        <p:blipFill>
          <a:blip r:embed="rId1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billion 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billion individual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million pag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 (letters) spell out genes (words) that result in the phenotype (the s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pell out bad stories (dise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C:\Users\jolill\AppData\Local\Microsoft\Windows\Temporary Internet Files\Content.IE5\7CPA9WEO\MCj04326450000[1].png"/>
          <p:cNvPicPr/>
          <p:nvPr/>
        </p:nvPicPr>
        <p:blipFill>
          <a:blip r:embed="rId3"/>
          <a:stretch/>
        </p:blipFill>
        <p:spPr>
          <a:xfrm>
            <a:off x="7810560" y="53352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hspe-030802-008"/>
          <p:cNvPicPr/>
          <p:nvPr/>
        </p:nvPicPr>
        <p:blipFill>
          <a:blip r:embed="rId1"/>
          <a:stretch/>
        </p:blipFill>
        <p:spPr>
          <a:xfrm>
            <a:off x="4495680" y="1600200"/>
            <a:ext cx="3414960" cy="48006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3"/>
          <p:cNvGrpSpPr/>
          <p:nvPr/>
        </p:nvGrpSpPr>
        <p:grpSpPr>
          <a:xfrm>
            <a:off x="5791320" y="4686480"/>
            <a:ext cx="838080" cy="457200"/>
            <a:chOff x="5791320" y="4686480"/>
            <a:chExt cx="838080" cy="457200"/>
          </a:xfrm>
        </p:grpSpPr>
        <p:sp>
          <p:nvSpPr>
            <p:cNvPr id="273" name="Oval 9"/>
            <p:cNvSpPr/>
            <p:nvPr/>
          </p:nvSpPr>
          <p:spPr>
            <a:xfrm>
              <a:off x="6324840" y="4838760"/>
              <a:ext cx="304560" cy="3049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791320" y="4686480"/>
              <a:ext cx="304920" cy="3045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562720" y="4305240"/>
            <a:ext cx="914400" cy="457200"/>
            <a:chOff x="5562720" y="4305240"/>
            <a:chExt cx="914400" cy="457200"/>
          </a:xfrm>
        </p:grpSpPr>
        <p:sp>
          <p:nvSpPr>
            <p:cNvPr id="276" name="Oval 8"/>
            <p:cNvSpPr/>
            <p:nvPr/>
          </p:nvSpPr>
          <p:spPr>
            <a:xfrm>
              <a:off x="6172200" y="4457520"/>
              <a:ext cx="304920" cy="304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5562720" y="4305240"/>
              <a:ext cx="304560" cy="304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3920" y="814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otides always pair in the same wa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397160"/>
            <a:ext cx="472428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base-pairing rules show how nucleotides always pair up in D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528480" y="3552840"/>
            <a:ext cx="43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a pyrimidine (single ring) pairs with a purine (double ring), the helix has a uniform wid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798120" y="2550960"/>
            <a:ext cx="22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1273680" y="2971800"/>
            <a:ext cx="18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pairs with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533520" y="914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ckbone is connected by covalent bo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20"/>
          <p:cNvGrpSpPr/>
          <p:nvPr/>
        </p:nvGrpSpPr>
        <p:grpSpPr>
          <a:xfrm>
            <a:off x="2203560" y="1905120"/>
            <a:ext cx="4425480" cy="4865760"/>
            <a:chOff x="2203560" y="1905120"/>
            <a:chExt cx="4425480" cy="4865760"/>
          </a:xfrm>
        </p:grpSpPr>
        <p:pic>
          <p:nvPicPr>
            <p:cNvPr id="285" name="Picture 4" descr="bhspe-030802-007"/>
            <p:cNvPicPr/>
            <p:nvPr/>
          </p:nvPicPr>
          <p:blipFill>
            <a:blip r:embed="rId1"/>
            <a:stretch/>
          </p:blipFill>
          <p:spPr>
            <a:xfrm>
              <a:off x="2203560" y="1905120"/>
              <a:ext cx="4425480" cy="466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2"/>
            <p:cNvGrpSpPr/>
            <p:nvPr/>
          </p:nvGrpSpPr>
          <p:grpSpPr>
            <a:xfrm>
              <a:off x="2987640" y="5680800"/>
              <a:ext cx="3597120" cy="1090080"/>
              <a:chOff x="2987640" y="5680800"/>
              <a:chExt cx="3597120" cy="1090080"/>
            </a:xfrm>
          </p:grpSpPr>
          <p:sp>
            <p:nvSpPr>
              <p:cNvPr id="287" name="Text Box 7"/>
              <p:cNvSpPr/>
              <p:nvPr/>
            </p:nvSpPr>
            <p:spPr>
              <a:xfrm>
                <a:off x="2987640" y="6478920"/>
                <a:ext cx="13784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hydrogen bond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ext Box 8"/>
              <p:cNvSpPr/>
              <p:nvPr/>
            </p:nvSpPr>
            <p:spPr>
              <a:xfrm>
                <a:off x="5288400" y="6458040"/>
                <a:ext cx="1296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valent bond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10"/>
              <p:cNvSpPr/>
              <p:nvPr/>
            </p:nvSpPr>
            <p:spPr>
              <a:xfrm flipV="1">
                <a:off x="3758040" y="5902560"/>
                <a:ext cx="554760" cy="7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11"/>
              <p:cNvSpPr/>
              <p:nvPr/>
            </p:nvSpPr>
            <p:spPr>
              <a:xfrm flipV="1">
                <a:off x="5534280" y="5680800"/>
                <a:ext cx="777240" cy="88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Rectangle 22"/>
          <p:cNvSpPr/>
          <p:nvPr/>
        </p:nvSpPr>
        <p:spPr>
          <a:xfrm>
            <a:off x="533520" y="1371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s are connected by hydrogen bo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DNAbases"/>
          <p:cNvPicPr/>
          <p:nvPr/>
        </p:nvPicPr>
        <p:blipFill>
          <a:blip r:embed="rId2"/>
          <a:stretch/>
        </p:blipFill>
        <p:spPr>
          <a:xfrm>
            <a:off x="533520" y="2724120"/>
            <a:ext cx="8001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covering the function and structure of D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rederick Griffith, 19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swald Avery, 19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lfred Hershey and Martha Chase, 195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rwin Charg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osalind Franklin, 1950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James Watson and Francis Crick, 19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4343400" y="18288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4343400" y="25146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4343400" y="3276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434340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AutoShape 8"/>
          <p:cNvSpPr/>
          <p:nvPr/>
        </p:nvSpPr>
        <p:spPr>
          <a:xfrm>
            <a:off x="4343400" y="4724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GGGTCGCGTATCGTAGCTGATGGGGGTAGTATTTTATATGCTGGTAGACAAAACGGTGTACTGCCGTCGTCGTAGTGATGTGCGGCGCCAAAAATTATACTGTGACTGATCGTAGTGTAAAAAAAAAAGTCGTGCTGCTTTTTTCGATCGCGCGTAGTAGCTACGCCGCGGTTCGCGCGTAAGAGACTGATGCGACTGATATATATACGCGCTAGCATATATCTCTCGATCTGATCGTAGATGCTTAAGTTACTAGCTGTCGTATACGTAGTTAGTCGGGTGATGATGCTGTATATATCGCGCTCTATATGCTAGCTAGTGTTGTAGCTAGCTGATTCCCTCGAAGTCTCGTGAATAATCGCGCTTTCGGGGGCTCTCT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2603520" y="228600"/>
            <a:ext cx="644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12-10 Chromosome Structur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f Eukary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bio_ch12_6220"/>
          <p:cNvPicPr/>
          <p:nvPr/>
        </p:nvPicPr>
        <p:blipFill>
          <a:blip r:embed="rId1"/>
          <a:stretch/>
        </p:blipFill>
        <p:spPr>
          <a:xfrm>
            <a:off x="1066680" y="2049480"/>
            <a:ext cx="6343920" cy="313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143000" y="18651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romos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09680" y="3541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erco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229280" y="3098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352680" y="1789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cleos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0" y="4989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st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7467480" y="224640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2-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ha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hel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Built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onsis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hosphat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5-C Sugar: deoxyrib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Nitrogenous bases: 4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5" descr="bio_ch12_6201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otide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fferences do you s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nucleotide.jpg"/>
          <p:cNvPicPr/>
          <p:nvPr/>
        </p:nvPicPr>
        <p:blipFill>
          <a:blip r:embed="rId1"/>
          <a:stretch/>
        </p:blipFill>
        <p:spPr>
          <a:xfrm>
            <a:off x="4191120" y="2057400"/>
            <a:ext cx="4647960" cy="441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2"/>
          <p:cNvGraphicFramePr/>
          <p:nvPr/>
        </p:nvGraphicFramePr>
        <p:xfrm>
          <a:off x="457200" y="1905120"/>
          <a:ext cx="4800600" cy="376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480060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Box 5"/>
          <p:cNvSpPr/>
          <p:nvPr/>
        </p:nvSpPr>
        <p:spPr>
          <a:xfrm>
            <a:off x="1371600" y="5943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449568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4 Nitrogenous bas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Calibri"/>
              </a:rPr>
              <a:t>Aden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ua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bio_ch12_4125"/>
          <p:cNvPicPr/>
          <p:nvPr/>
        </p:nvPicPr>
        <p:blipFill>
          <a:blip r:embed="rId1"/>
          <a:stretch/>
        </p:blipFill>
        <p:spPr>
          <a:xfrm>
            <a:off x="3352680" y="2057400"/>
            <a:ext cx="5237280" cy="3417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3668760" y="1542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r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143760" y="1542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yrimid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686040" y="204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753080" y="204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991120" y="20588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286760" y="20588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986280" y="5273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832440" y="547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1:33:14Z</dcterms:created>
  <dc:creator>Joanne Lilliendahl</dc:creator>
  <dc:description/>
  <dc:language>en-US</dc:language>
  <cp:lastModifiedBy>udsd</cp:lastModifiedBy>
  <dcterms:modified xsi:type="dcterms:W3CDTF">2009-05-08T13:15:00Z</dcterms:modified>
  <cp:revision>44</cp:revision>
  <dc:subject/>
  <dc:title>Slide 1</dc:title>
</cp:coreProperties>
</file>